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C70-0270-4D47-B5BE-C3C533AF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604-6006-4D96-B072-F72FED1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6FD-6815-460F-A4C8-0FD0001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2C7-7184-46C9-96E2-56F1EC210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28E-1CE3-417A-8E4D-C8A65603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1CB-4877-450C-852A-6EA5FDF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AFC-92E3-4F6D-8127-B5C5074B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E75-A04E-4C34-AEA1-38E1CF33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D06-9B05-44F9-AADC-296F81EF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772-B324-4B1F-8393-729083D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D1D-228A-43CF-87D3-F7C1D721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05A-6BEE-4BAF-A112-CEF77E0D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97E-7260-4395-822C-38C31B06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29000" y="4876920"/>
            <a:ext cx="2209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esiunea iunie - iuli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</cp:lastModifiedBy>
  <dcterms:modified xsi:type="dcterms:W3CDTF">2012-06-18T11:06:09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